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C8F-D58D-403B-9B2E-9AE1B810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A61-146D-4D68-B0AD-236DD129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DFF-24AE-4A4D-8369-6FD8C4A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C54-6BBD-4AF9-96D4-6A90B1B2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C89-0FAF-4474-A557-541D6245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99AA-BE37-4A7E-B18A-88204FE7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D6BC-0CCA-4F79-9AFD-CBBB6FCF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8E2C-4D7E-4CE3-8532-E7F3149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C74-B066-4321-9C55-46ABE772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17C2-993B-4D04-BCE2-33F80C59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448-0BA5-40C9-A4EA-FD79C38B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B92-DA2E-4B70-BA6E-5CA1626C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4EDE-6CD9-4AF8-B1CA-530FFFD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017B-9B95-45B5-BC6D-CA12F2DB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52B-B9EC-4963-A54F-3F9429E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7E6-99AE-482E-AC74-6DAC7C32E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084E-1733-4971-A208-001A08F7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EED5-459A-40B9-A31D-94D65E8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645-CED7-45A4-B98D-D3356AC1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2AE-B6FB-4A9F-B51A-FF6A3185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3EE-7216-4BE7-8B35-62A10A4A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9B9-1639-47DD-9E12-6DEC9B11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3A5E-28B7-488B-B388-768487FD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5A4E-AA21-4065-8AAA-B46F1E0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8E6-F071-4966-8688-EDE8E0CCD5E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6D2D-229D-4B88-8407-B7754E0D90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HSP 3M - Unit 3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s. D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1120" y="6019920"/>
            <a:ext cx="87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in, C.M., &amp; Colyer, J.S. (2001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Human w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oronto: Oxford University 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ART 4 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and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Conflict Matt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an inevitable part of human inter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sonality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itude towards 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-solving ski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s (personal / professio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conflict is not resolv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lead to emotional and physical / mental health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d 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isoned work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ople may look for employment elsew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y Conflict Occu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Family Baggag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memories and experiences related to family that have accumula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arental Authorit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linking how parents corrected us in childhood and our self-esteem. May cause us to overreact to criticism in the workpla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ibling-Rivalry Issue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how you and your siblings got attention, sharing, blame, division of chores, achievement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General Dynamic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dynamics of our primary family shape our future work relationship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xual Harass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ny conduct, comment, gesture, or contact of a sexual nature that is likely to cause offence or humiliation to any employee or that might, on reasonable grounds, be perceived by that employee as placing a condition of a sexual nature on employment or any opportunity for training or promo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(Human Resources Development Canada,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assment continu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anada Labour Cod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quires every employer to issue a policy on sexual harassment that follows specific guid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uct of this nature is unwel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ducing conflict – 3 part formul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agnose what has gone wr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mbigu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When bosses fail to ensure that everyone in the workplace share some understanding of the goals, roles and proced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Overloa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When highly motivated people take on too much work and feel they must keep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new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ine roles and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ce of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rofessionaliz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break-down in teamwork), rather tha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personaliz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erson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aging Conflict - Sty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or- hears variety of opinions, makes a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liger – plays down the dif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tor- acts unilaterally, overlooks ideas and needs of ot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voider – withdraws from difficult sit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omiser – “middle-of-the-road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roles and expec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2:26:39Z</dcterms:created>
  <dc:creator>Administrator</dc:creator>
  <dc:description/>
  <dc:language>en-US</dc:language>
  <cp:lastModifiedBy>Customer</cp:lastModifiedBy>
  <dcterms:modified xsi:type="dcterms:W3CDTF">2010-12-02T16:27:59Z</dcterms:modified>
  <cp:revision>4</cp:revision>
  <dc:subject/>
  <dc:title>HSP 3M - Unit 3</dc:title>
</cp:coreProperties>
</file>